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1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2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3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30A9-B91F-4B80-B2B4-4C18C230A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OnInitCmds: slideshow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OnClose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OnInit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OnRefreshCmd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OnCloseCmds: slideshow end -home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280" y="3648600"/>
            <a:ext cx="8524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14280" y="364860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2520" y="364860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96440" y="107136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8960" y="107136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14280" y="364860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96440" y="364860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8960" y="364860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674720" y="167760"/>
            <a:ext cx="7129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4280" y="364860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2520" y="364860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14280" y="3648600"/>
            <a:ext cx="8524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4280" y="3648600"/>
            <a:ext cx="8524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14280" y="364860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2520" y="364860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96440" y="107136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8960" y="107136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14280" y="364860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96440" y="364860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8960" y="3648600"/>
            <a:ext cx="274464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74720" y="167760"/>
            <a:ext cx="71294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14280" y="364860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2520" y="364860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2520" y="1071360"/>
            <a:ext cx="4159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14280" y="3648600"/>
            <a:ext cx="852480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beb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403560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401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49120" y="6566040"/>
            <a:ext cx="35323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808080"/>
                </a:solidFill>
                <a:latin typeface="Arial"/>
              </a:rPr>
              <a:t>Copyright 2009 ATMEL CONFID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12600" y="4046400"/>
            <a:ext cx="9156600" cy="20160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5689440" y="1325520"/>
            <a:ext cx="2949840" cy="1312560"/>
            <a:chOff x="5689440" y="1325520"/>
            <a:chExt cx="2949840" cy="1312560"/>
          </a:xfrm>
        </p:grpSpPr>
        <p:grpSp>
          <p:nvGrpSpPr>
            <p:cNvPr id="6" name=""/>
            <p:cNvGrpSpPr/>
            <p:nvPr/>
          </p:nvGrpSpPr>
          <p:grpSpPr>
            <a:xfrm>
              <a:off x="5689440" y="1325520"/>
              <a:ext cx="2738520" cy="1189800"/>
              <a:chOff x="5689440" y="1325520"/>
              <a:chExt cx="2738520" cy="1189800"/>
            </a:xfrm>
          </p:grpSpPr>
          <p:sp>
            <p:nvSpPr>
              <p:cNvPr id="7" name=""/>
              <p:cNvSpPr/>
              <p:nvPr/>
            </p:nvSpPr>
            <p:spPr>
              <a:xfrm>
                <a:off x="6112080" y="1325520"/>
                <a:ext cx="2315880" cy="948240"/>
              </a:xfrm>
              <a:custGeom>
                <a:avLst/>
                <a:gdLst/>
                <a:ahLst/>
                <a:rect l="l" t="t" r="r" b="b"/>
                <a:pathLst>
                  <a:path w="115" h="51">
                    <a:moveTo>
                      <a:pt x="0" y="11"/>
                    </a:moveTo>
                    <a:lnTo>
                      <a:pt x="7" y="0"/>
                    </a:lnTo>
                    <a:lnTo>
                      <a:pt x="115" y="0"/>
                    </a:lnTo>
                    <a:lnTo>
                      <a:pt x="115" y="11"/>
                    </a:lnTo>
                    <a:lnTo>
                      <a:pt x="23" y="11"/>
                    </a:lnTo>
                    <a:lnTo>
                      <a:pt x="23" y="51"/>
                    </a:lnTo>
                    <a:lnTo>
                      <a:pt x="12" y="51"/>
                    </a:lnTo>
                    <a:lnTo>
                      <a:pt x="12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689440" y="1585800"/>
                <a:ext cx="604080" cy="68796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20" y="0"/>
                    </a:moveTo>
                    <a:lnTo>
                      <a:pt x="30" y="0"/>
                    </a:lnTo>
                    <a:lnTo>
                      <a:pt x="30" y="37"/>
                    </a:lnTo>
                    <a:lnTo>
                      <a:pt x="19" y="37"/>
                    </a:lnTo>
                    <a:lnTo>
                      <a:pt x="19" y="23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35520" y="1585800"/>
                <a:ext cx="765360" cy="6879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0" y="0"/>
                    </a:moveTo>
                    <a:lnTo>
                      <a:pt x="0" y="37"/>
                    </a:lnTo>
                    <a:lnTo>
                      <a:pt x="11" y="37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37"/>
                    </a:lnTo>
                    <a:lnTo>
                      <a:pt x="24" y="37"/>
                    </a:lnTo>
                    <a:lnTo>
                      <a:pt x="24" y="5"/>
                    </a:lnTo>
                    <a:cubicBezTo>
                      <a:pt x="26" y="5"/>
                      <a:pt x="27" y="6"/>
                      <a:pt x="27" y="8"/>
                    </a:cubicBezTo>
                    <a:lnTo>
                      <a:pt x="27" y="37"/>
                    </a:lnTo>
                    <a:lnTo>
                      <a:pt x="38" y="37"/>
                    </a:lnTo>
                    <a:lnTo>
                      <a:pt x="38" y="7"/>
                    </a:lnTo>
                    <a:cubicBezTo>
                      <a:pt x="38" y="2"/>
                      <a:pt x="34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461360" y="1585800"/>
                <a:ext cx="463320" cy="68796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0"/>
                    </a:moveTo>
                    <a:lnTo>
                      <a:pt x="23" y="0"/>
                    </a:lnTo>
                    <a:lnTo>
                      <a:pt x="23" y="11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23" y="14"/>
                    </a:lnTo>
                    <a:lnTo>
                      <a:pt x="23" y="24"/>
                    </a:lnTo>
                    <a:lnTo>
                      <a:pt x="8" y="24"/>
                    </a:lnTo>
                    <a:lnTo>
                      <a:pt x="8" y="27"/>
                    </a:lnTo>
                    <a:lnTo>
                      <a:pt x="23" y="27"/>
                    </a:lnTo>
                    <a:lnTo>
                      <a:pt x="2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985160" y="1585800"/>
                <a:ext cx="442800" cy="68796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0" y="0"/>
                    </a:moveTo>
                    <a:lnTo>
                      <a:pt x="11" y="0"/>
                    </a:lnTo>
                    <a:lnTo>
                      <a:pt x="11" y="27"/>
                    </a:lnTo>
                    <a:lnTo>
                      <a:pt x="22" y="27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89440" y="2329560"/>
                <a:ext cx="2597760" cy="185760"/>
              </a:xfrm>
              <a:custGeom>
                <a:avLst/>
                <a:gdLst/>
                <a:ahLst/>
                <a:rect l="l" t="t" r="r" b="b"/>
                <a:pathLst>
                  <a:path w="129" h="10">
                    <a:moveTo>
                      <a:pt x="129" y="0"/>
                    </a:moveTo>
                    <a:lnTo>
                      <a:pt x="123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" name="" descr=""/>
            <p:cNvPicPr/>
            <p:nvPr/>
          </p:nvPicPr>
          <p:blipFill>
            <a:blip r:embed="rId3"/>
            <a:stretch/>
          </p:blipFill>
          <p:spPr>
            <a:xfrm>
              <a:off x="8155800" y="2192040"/>
              <a:ext cx="483480" cy="446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5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5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500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spcBef>
                <a:spcPts val="1500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spcBef>
                <a:spcPts val="1500"/>
              </a:spcBef>
              <a:buClr>
                <a:srgbClr val="9cc94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spcBef>
                <a:spcPts val="15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55640" y="793800"/>
            <a:ext cx="7177320" cy="101520"/>
          </a:xfrm>
          <a:custGeom>
            <a:avLst/>
            <a:gdLst/>
            <a:ahLst/>
            <a:rect l="l" t="t" r="r" b="b"/>
            <a:pathLst>
              <a:path w="4521" h="64">
                <a:moveTo>
                  <a:pt x="4521" y="64"/>
                </a:moveTo>
                <a:lnTo>
                  <a:pt x="4521" y="0"/>
                </a:lnTo>
                <a:lnTo>
                  <a:pt x="31" y="0"/>
                </a:lnTo>
                <a:lnTo>
                  <a:pt x="0" y="63"/>
                </a:lnTo>
                <a:lnTo>
                  <a:pt x="4521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50520" y="80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81160" y="285840"/>
            <a:ext cx="1395360" cy="671040"/>
            <a:chOff x="281160" y="285840"/>
            <a:chExt cx="1395360" cy="671040"/>
          </a:xfrm>
        </p:grpSpPr>
        <p:grpSp>
          <p:nvGrpSpPr>
            <p:cNvPr id="56" name=""/>
            <p:cNvGrpSpPr/>
            <p:nvPr/>
          </p:nvGrpSpPr>
          <p:grpSpPr>
            <a:xfrm>
              <a:off x="281160" y="285840"/>
              <a:ext cx="1295640" cy="608760"/>
              <a:chOff x="281160" y="285840"/>
              <a:chExt cx="1295640" cy="608760"/>
            </a:xfrm>
          </p:grpSpPr>
          <p:sp>
            <p:nvSpPr>
              <p:cNvPr id="57" name=""/>
              <p:cNvSpPr/>
              <p:nvPr/>
            </p:nvSpPr>
            <p:spPr>
              <a:xfrm>
                <a:off x="480960" y="285840"/>
                <a:ext cx="1095480" cy="485280"/>
              </a:xfrm>
              <a:custGeom>
                <a:avLst/>
                <a:gdLst/>
                <a:ahLst/>
                <a:rect l="l" t="t" r="r" b="b"/>
                <a:pathLst>
                  <a:path w="115" h="51">
                    <a:moveTo>
                      <a:pt x="0" y="11"/>
                    </a:moveTo>
                    <a:lnTo>
                      <a:pt x="7" y="0"/>
                    </a:lnTo>
                    <a:lnTo>
                      <a:pt x="115" y="0"/>
                    </a:lnTo>
                    <a:lnTo>
                      <a:pt x="115" y="11"/>
                    </a:lnTo>
                    <a:lnTo>
                      <a:pt x="23" y="11"/>
                    </a:lnTo>
                    <a:lnTo>
                      <a:pt x="23" y="51"/>
                    </a:lnTo>
                    <a:lnTo>
                      <a:pt x="12" y="51"/>
                    </a:lnTo>
                    <a:lnTo>
                      <a:pt x="12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81160" y="418680"/>
                <a:ext cx="285480" cy="35208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20" y="0"/>
                    </a:moveTo>
                    <a:lnTo>
                      <a:pt x="30" y="0"/>
                    </a:lnTo>
                    <a:lnTo>
                      <a:pt x="30" y="37"/>
                    </a:lnTo>
                    <a:lnTo>
                      <a:pt x="19" y="37"/>
                    </a:lnTo>
                    <a:lnTo>
                      <a:pt x="19" y="23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28640" y="418680"/>
                <a:ext cx="362160" cy="35208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0" y="0"/>
                    </a:moveTo>
                    <a:lnTo>
                      <a:pt x="0" y="37"/>
                    </a:lnTo>
                    <a:lnTo>
                      <a:pt x="11" y="37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37"/>
                    </a:lnTo>
                    <a:lnTo>
                      <a:pt x="24" y="37"/>
                    </a:lnTo>
                    <a:lnTo>
                      <a:pt x="24" y="5"/>
                    </a:lnTo>
                    <a:cubicBezTo>
                      <a:pt x="26" y="5"/>
                      <a:pt x="27" y="6"/>
                      <a:pt x="27" y="8"/>
                    </a:cubicBezTo>
                    <a:lnTo>
                      <a:pt x="27" y="37"/>
                    </a:lnTo>
                    <a:lnTo>
                      <a:pt x="38" y="37"/>
                    </a:lnTo>
                    <a:lnTo>
                      <a:pt x="38" y="7"/>
                    </a:lnTo>
                    <a:cubicBezTo>
                      <a:pt x="38" y="2"/>
                      <a:pt x="34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19600" y="418680"/>
                <a:ext cx="219240" cy="35208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0"/>
                    </a:moveTo>
                    <a:lnTo>
                      <a:pt x="23" y="0"/>
                    </a:lnTo>
                    <a:lnTo>
                      <a:pt x="23" y="11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23" y="14"/>
                    </a:lnTo>
                    <a:lnTo>
                      <a:pt x="23" y="24"/>
                    </a:lnTo>
                    <a:lnTo>
                      <a:pt x="8" y="24"/>
                    </a:lnTo>
                    <a:lnTo>
                      <a:pt x="8" y="27"/>
                    </a:lnTo>
                    <a:lnTo>
                      <a:pt x="23" y="27"/>
                    </a:lnTo>
                    <a:lnTo>
                      <a:pt x="2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67280" y="418680"/>
                <a:ext cx="209520" cy="35208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0" y="0"/>
                    </a:moveTo>
                    <a:lnTo>
                      <a:pt x="11" y="0"/>
                    </a:lnTo>
                    <a:lnTo>
                      <a:pt x="11" y="27"/>
                    </a:lnTo>
                    <a:lnTo>
                      <a:pt x="22" y="27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81160" y="799560"/>
                <a:ext cx="1229040" cy="95040"/>
              </a:xfrm>
              <a:custGeom>
                <a:avLst/>
                <a:gdLst/>
                <a:ahLst/>
                <a:rect l="l" t="t" r="r" b="b"/>
                <a:pathLst>
                  <a:path w="129" h="10">
                    <a:moveTo>
                      <a:pt x="129" y="0"/>
                    </a:moveTo>
                    <a:lnTo>
                      <a:pt x="123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1447920" y="729000"/>
              <a:ext cx="228600" cy="227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6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38dd"/>
                </a:solidFill>
                <a:latin typeface="Arial"/>
                <a:ea typeface="SimSun"/>
              </a:rPr>
              <a:t>SAM3U Presenta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7040" y="2666880"/>
            <a:ext cx="8007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59000"/>
          </a:bodyPr>
          <a:p>
            <a:pPr marL="112320" indent="-11232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You can change the speed using potentiometer (VR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2320" indent="-11232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Click on the screen 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2320" indent="-11232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0" y="1417680"/>
            <a:ext cx="1946160" cy="194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410080" y="5151600"/>
            <a:ext cx="3657600" cy="16300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AM3U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Flash Microcontroller</a:t>
            </a:r>
            <a:endParaRPr b="1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-3352680" y="-338040"/>
            <a:ext cx="15773400" cy="8872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33520" y="3357720"/>
            <a:ext cx="3124080" cy="2509560"/>
          </a:xfrm>
          <a:prstGeom prst="roundRect">
            <a:avLst>
              <a:gd name="adj" fmla="val 16667"/>
            </a:avLst>
          </a:prstGeom>
          <a:solidFill>
            <a:srgbClr val="ffff00">
              <a:alpha val="2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fr-FR" sz="16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fr-FR" sz="1600" spc="-1" strike="noStrike" u="sng">
                <a:solidFill>
                  <a:srgbClr val="ff3300"/>
                </a:solidFill>
                <a:uFillTx/>
                <a:latin typeface="Arial"/>
              </a:rPr>
              <a:t>SAM3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rtex M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lash M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3890880"/>
            <a:ext cx="1900080" cy="1752840"/>
          </a:xfrm>
          <a:prstGeom prst="roundRect">
            <a:avLst>
              <a:gd name="adj" fmla="val 16667"/>
            </a:avLst>
          </a:prstGeom>
          <a:solidFill>
            <a:srgbClr val="ff66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 u="sng">
                <a:solidFill>
                  <a:srgbClr val="ff3300"/>
                </a:solidFill>
                <a:uFillTx/>
                <a:latin typeface="Arial"/>
              </a:rPr>
              <a:t>SAM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M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lash M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ne-stop shop for ARM micro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6024600"/>
            <a:ext cx="86518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80880" y="1681200"/>
            <a:ext cx="0" cy="4648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82800" rIns="828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51920" y="6168960"/>
            <a:ext cx="39204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t">
            <a:sp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5948280"/>
            <a:ext cx="75960" cy="150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08960" y="6168960"/>
            <a:ext cx="39204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t">
            <a:sp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76360" y="5931000"/>
            <a:ext cx="76320" cy="150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96600" y="6170760"/>
            <a:ext cx="50472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t">
            <a:sp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02320" y="5948280"/>
            <a:ext cx="75960" cy="150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07000" y="5595840"/>
            <a:ext cx="6357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t">
            <a:spAutoFit/>
          </a:bodyPr>
          <a:p>
            <a:pPr algn="ctr"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2514600"/>
            <a:ext cx="1371600" cy="205740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2057400"/>
              <a:gd name="textAreaBottom" fmla="*/ 1990440 h 2057400"/>
            </a:gdLst>
            <a:ahLst/>
            <a:rect l="textAreaLeft" t="textAreaTop" r="textAreaRight" b="textAreaBottom"/>
            <a:pathLst>
              <a:path w="21600" h="32397">
                <a:moveTo>
                  <a:pt x="3600" y="0"/>
                </a:moveTo>
                <a:arcTo wR="3600" hR="3600" stAng="16200000" swAng="-5400000"/>
                <a:lnTo>
                  <a:pt x="0" y="28797"/>
                </a:lnTo>
                <a:arcTo wR="3600" hR="3600" stAng="10800000" swAng="-5400000"/>
                <a:lnTo>
                  <a:pt x="18000" y="3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3300"/>
                </a:solidFill>
                <a:uFillTx/>
                <a:latin typeface="Arial"/>
              </a:rPr>
              <a:t>SAM9 M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M9 Flash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rge S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30400" y="6168960"/>
            <a:ext cx="50472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t">
            <a:spAutoFit/>
          </a:bodyPr>
          <a:p>
            <a:pPr algn="ctr"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80240" y="5950080"/>
            <a:ext cx="76320" cy="150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39600" bIns="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1676520"/>
            <a:ext cx="1752480" cy="190476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1904760"/>
              <a:gd name="textAreaBottom" fmla="*/ 1819440 h 1904760"/>
            </a:gdLst>
            <a:ahLst/>
            <a:rect l="textAreaLeft" t="textAreaTop" r="textAreaRight" b="textAreaBottom"/>
            <a:pathLst>
              <a:path w="21600" h="23477">
                <a:moveTo>
                  <a:pt x="3600" y="0"/>
                </a:moveTo>
                <a:arcTo wR="3600" hR="3600" stAng="16200000" swAng="-5400000"/>
                <a:lnTo>
                  <a:pt x="0" y="19877"/>
                </a:lnTo>
                <a:arcTo wR="3600" hR="3600" stAng="10800000" swAng="-5400000"/>
                <a:lnTo>
                  <a:pt x="18000" y="2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33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3300"/>
                </a:solidFill>
                <a:uFillTx/>
                <a:latin typeface="Arial"/>
              </a:rPr>
              <a:t>High end M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120" y="1371600"/>
            <a:ext cx="160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51040" y="121932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-bit M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01520" y="121932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-bit Embedded M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07000" y="16812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172760" y="168120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8920" y="1824120"/>
            <a:ext cx="2281320" cy="2747880"/>
          </a:xfrm>
          <a:custGeom>
            <a:avLst/>
            <a:gdLst>
              <a:gd name="textAreaLeft" fmla="*/ 111240 w 2281320"/>
              <a:gd name="textAreaRight" fmla="*/ 2170080 w 2281320"/>
              <a:gd name="textAreaTop" fmla="*/ 111240 h 2747880"/>
              <a:gd name="textAreaBottom" fmla="*/ 2636640 h 2747880"/>
            </a:gdLst>
            <a:ahLst/>
            <a:rect l="textAreaLeft" t="textAreaTop" r="textAreaRight" b="textAreaBottom"/>
            <a:pathLst>
              <a:path w="21600" h="26017">
                <a:moveTo>
                  <a:pt x="3600" y="0"/>
                </a:moveTo>
                <a:arcTo wR="3600" hR="3600" stAng="16200000" swAng="-5400000"/>
                <a:lnTo>
                  <a:pt x="0" y="22417"/>
                </a:lnTo>
                <a:arcTo wR="3600" hR="3600" stAng="10800000" swAng="-5400000"/>
                <a:lnTo>
                  <a:pt x="18000" y="26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3300"/>
                </a:solidFill>
                <a:uFillTx/>
                <a:latin typeface="Arial"/>
              </a:rPr>
              <a:t>SAM9 M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M9 M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Series enable 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3000"/>
          </a:bodyPr>
          <a:p>
            <a:pPr marL="176760" indent="-176760">
              <a:lnSpc>
                <a:spcPct val="90000"/>
              </a:lnSpc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and light-speed data transf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’s First Cortex-M3 Flash MCU with HS USB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andwidth archite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2360" indent="-166680">
              <a:lnSpc>
                <a:spcPct val="90000"/>
              </a:lnSpc>
              <a:spcBef>
                <a:spcPts val="90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ayer bus matrix, DMA, Distribut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lnSpc>
                <a:spcPct val="90000"/>
              </a:lnSpc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rter contro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x-M3 @ up to 96MHz for great process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22360" indent="-166680">
              <a:lnSpc>
                <a:spcPct val="90000"/>
              </a:lnSpc>
              <a:spcBef>
                <a:spcPts val="75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algorithm, audio processing, filter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 multiply and divide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lnSpc>
                <a:spcPct val="90000"/>
              </a:lnSpc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energy efficiency and low pow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Cortex-M3 operating down 1.62V for battery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 µA low power mode with R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3657600" y="-1447920"/>
            <a:ext cx="14173200" cy="10630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Block Diagram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4267080"/>
            <a:ext cx="1523880" cy="351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1905120"/>
            <a:ext cx="1523880" cy="38556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91520" y="4618080"/>
            <a:ext cx="1523880" cy="31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FP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2309760"/>
            <a:ext cx="152388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96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91520" y="26668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2 to 3.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3276720"/>
            <a:ext cx="1523880" cy="72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B 2.0 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/ trans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4933800"/>
            <a:ext cx="1523880" cy="316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A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257800"/>
            <a:ext cx="1523880" cy="316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FP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5573880"/>
            <a:ext cx="1523880" cy="31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A 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igh Speed USB Devic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applications require more than 12Mbp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B Dongle: HDTV, Wireless, Memory 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loggers: Fast data 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Application: Webcam, Printer, External H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ment of inter-PCB links like high-speed SPI and parallel wires by US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Speed USB 480 Mbps is th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770520" y="1371600"/>
            <a:ext cx="2373480" cy="17892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029200" y="4495680"/>
            <a:ext cx="1998720" cy="2006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295280" y="4660920"/>
            <a:ext cx="1479600" cy="13557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3429000" y="4786200"/>
            <a:ext cx="1398600" cy="12304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7505640" y="3954600"/>
            <a:ext cx="1333440" cy="106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– High Performance Architecture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88000"/>
          </a:bodyPr>
          <a:p>
            <a:pPr marL="167400" indent="-1674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tex-M3 running up to 96 MH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sh 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160" indent="-165960"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bit wid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5160" indent="-165960"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line Prefetch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layer Matr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160" indent="-165960">
              <a:spcBef>
                <a:spcPts val="7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Data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C and D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SRAM ban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7400" indent="-1674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160" indent="-16596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igher data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5160" indent="-16596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ouble system performance over SAM7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505320" y="1096920"/>
            <a:ext cx="5562000" cy="4235040"/>
            <a:chOff x="3505320" y="1096920"/>
            <a:chExt cx="5562000" cy="4235040"/>
          </a:xfrm>
        </p:grpSpPr>
        <p:sp>
          <p:nvSpPr>
            <p:cNvPr id="192" name=""/>
            <p:cNvSpPr/>
            <p:nvPr/>
          </p:nvSpPr>
          <p:spPr>
            <a:xfrm flipV="1">
              <a:off x="5970600" y="2740680"/>
              <a:ext cx="0" cy="148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505320" y="1758960"/>
              <a:ext cx="1706400" cy="2106720"/>
            </a:xfrm>
            <a:custGeom>
              <a:avLst/>
              <a:gdLst>
                <a:gd name="textAreaLeft" fmla="*/ 83160 w 1706400"/>
                <a:gd name="textAreaRight" fmla="*/ 1623240 w 1706400"/>
                <a:gd name="textAreaTop" fmla="*/ 83160 h 2106720"/>
                <a:gd name="textAreaBottom" fmla="*/ 2023560 h 2106720"/>
              </a:gdLst>
              <a:ahLst/>
              <a:rect l="textAreaLeft" t="textAreaTop" r="textAreaRight" b="textAreaBottom"/>
              <a:pathLst>
                <a:path w="21600" h="26666">
                  <a:moveTo>
                    <a:pt x="3600" y="0"/>
                  </a:moveTo>
                  <a:arcTo wR="3600" hR="3600" stAng="16200000" swAng="-5400000"/>
                  <a:lnTo>
                    <a:pt x="0" y="23066"/>
                  </a:lnTo>
                  <a:arcTo wR="3600" hR="3600" stAng="10800000" swAng="-5400000"/>
                  <a:lnTo>
                    <a:pt x="18000" y="266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tex-M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308120" y="386604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720760" y="4611240"/>
              <a:ext cx="0" cy="35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80560" y="4231440"/>
              <a:ext cx="5486760" cy="367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ulti-layer AHB Matri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04760" y="4928040"/>
              <a:ext cx="2208960" cy="4039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ipheral D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roller: 17 channe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23840" y="1758960"/>
              <a:ext cx="1232640" cy="1839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JTAG ICE &amp; SW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350560" y="1464480"/>
              <a:ext cx="716760" cy="2401200"/>
            </a:xfrm>
            <a:custGeom>
              <a:avLst/>
              <a:gdLst>
                <a:gd name="textAreaLeft" fmla="*/ 34920 w 716760"/>
                <a:gd name="textAreaRight" fmla="*/ 681840 w 716760"/>
                <a:gd name="textAreaTop" fmla="*/ 34920 h 2401200"/>
                <a:gd name="textAreaBottom" fmla="*/ 2366280 h 2401200"/>
              </a:gdLst>
              <a:ahLst/>
              <a:rect l="textAreaLeft" t="textAreaTop" r="textAreaRight" b="textAreaBottom"/>
              <a:pathLst>
                <a:path w="21600" h="72336">
                  <a:moveTo>
                    <a:pt x="3600" y="0"/>
                  </a:moveTo>
                  <a:arcTo wR="3600" hR="3600" stAng="16200000" swAng="-5400000"/>
                  <a:lnTo>
                    <a:pt x="0" y="68736"/>
                  </a:lnTo>
                  <a:arcTo wR="3600" hR="3600" stAng="10800000" swAng="-5400000"/>
                  <a:lnTo>
                    <a:pt x="18000" y="723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4-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8699760" y="386604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696280" y="387792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06760" y="2021760"/>
              <a:ext cx="954000" cy="73260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16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06760" y="3134520"/>
              <a:ext cx="949680" cy="7329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2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17600" y="1464480"/>
              <a:ext cx="626400" cy="2441520"/>
            </a:xfrm>
            <a:custGeom>
              <a:avLst/>
              <a:gdLst>
                <a:gd name="textAreaLeft" fmla="*/ 30240 w 626400"/>
                <a:gd name="textAreaRight" fmla="*/ 596160 w 626400"/>
                <a:gd name="textAreaTop" fmla="*/ 30240 h 2441520"/>
                <a:gd name="textAreaBottom" fmla="*/ 2411280 h 2441520"/>
              </a:gdLst>
              <a:ahLst/>
              <a:rect l="textAreaLeft" t="textAreaTop" r="textAreaRight" b="textAreaBottom"/>
              <a:pathLst>
                <a:path w="21600" h="84154">
                  <a:moveTo>
                    <a:pt x="3600" y="0"/>
                  </a:moveTo>
                  <a:arcTo wR="3600" hR="3600" stAng="16200000" swAng="-5400000"/>
                  <a:lnTo>
                    <a:pt x="0" y="80554"/>
                  </a:lnTo>
                  <a:arcTo wR="3600" hR="3600" stAng="10800000" swAng="-5400000"/>
                  <a:lnTo>
                    <a:pt x="18000" y="841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B De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igh Spe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50800" y="3797280"/>
              <a:ext cx="402480" cy="108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7963200" y="390636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17600" y="1096920"/>
              <a:ext cx="626400" cy="36756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50800" y="3631320"/>
              <a:ext cx="402480" cy="108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IF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20480" y="3597120"/>
              <a:ext cx="690480" cy="2098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940440" y="3837600"/>
              <a:ext cx="0" cy="35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62640" y="2908800"/>
              <a:ext cx="1104120" cy="91692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las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8-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- High Speed Bridgin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13920" y="1071360"/>
            <a:ext cx="654372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Speed peripher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B HS De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ranscei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/MMC/S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FP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AS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3680" y="1843200"/>
          <a:ext cx="4463640" cy="4480920"/>
        </p:xfrm>
        <a:graphic>
          <a:graphicData uri="http://schemas.openxmlformats.org/drawingml/2006/table">
            <a:tbl>
              <a:tblPr/>
              <a:tblGrid>
                <a:gridCol w="2361600"/>
                <a:gridCol w="2102040"/>
              </a:tblGrid>
              <a:tr h="95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Speed Periphe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ximum band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B De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rnal Bus 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00 Mbps out of 7ns S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C interf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DIO/SDC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– Power efficiency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87000"/>
          </a:bodyPr>
          <a:p>
            <a:pPr marL="165600" indent="-16560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iciency in active mo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0.5mA/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 with 64-bit or 128-bit read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8880" indent="-155880">
              <a:spcBef>
                <a:spcPts val="75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-bit mode for reduced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88880" indent="-155880">
              <a:spcBef>
                <a:spcPts val="75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8-bit mode for high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configurable clock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8880" indent="-155880">
              <a:spcBef>
                <a:spcPts val="75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L, prescalers, dividers, clock gating at peripher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low power mode on Flash during read under 10MHz operating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voltage oper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Cortex-M3 MCU operating down to 1.62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rue 1.8V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234120" y="1066680"/>
            <a:ext cx="2681280" cy="273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– Low Power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14280" y="116172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87000"/>
          </a:bodyPr>
          <a:p>
            <a:pPr marL="165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60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lnSpc>
                <a:spcPct val="90000"/>
              </a:lnSpc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ption measured with RTC run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lnSpc>
                <a:spcPct val="90000"/>
              </a:lnSpc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mption &lt; 2 µA at 1.8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lnSpc>
                <a:spcPct val="90000"/>
              </a:lnSpc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 domain mea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C, RTT, POR, BOD, Xtal 32KHz, low freq internal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enabled or disabled except POR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-33480" y="954000"/>
          <a:ext cx="9177480" cy="3084480"/>
        </p:xfrm>
        <a:graphic>
          <a:graphicData uri="http://schemas.openxmlformats.org/drawingml/2006/table">
            <a:tbl>
              <a:tblPr/>
              <a:tblGrid>
                <a:gridCol w="1035360"/>
                <a:gridCol w="1431720"/>
                <a:gridCol w="1616040"/>
                <a:gridCol w="944640"/>
                <a:gridCol w="1111320"/>
                <a:gridCol w="1236600"/>
                <a:gridCol w="1801800"/>
              </a:tblGrid>
              <a:tr h="98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(typ, 3.3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2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2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ipher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2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2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c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2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ke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2a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ke 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ur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42aa4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µ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0µ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C, RTT, BOD, Wake up p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8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µ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8k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µ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795240"/>
                          <a:tab algn="l" pos="1590840"/>
                          <a:tab algn="l" pos="2386080"/>
                          <a:tab algn="l" pos="3181320"/>
                          <a:tab algn="l" pos="3976560"/>
                          <a:tab algn="l" pos="4772160"/>
                          <a:tab algn="l" pos="5567400"/>
                          <a:tab algn="l" pos="6362640"/>
                          <a:tab algn="l" pos="7157880"/>
                          <a:tab algn="l" pos="7953480"/>
                          <a:tab algn="l" pos="8748720"/>
                          <a:tab algn="l" pos="9543960"/>
                          <a:tab algn="l" pos="1033956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C, RTT, BOD, Wake up pins, US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4612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04812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257800" y="2362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5"/>
          <a:stretch/>
        </p:blipFill>
        <p:spPr>
          <a:xfrm>
            <a:off x="144612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6"/>
          <a:stretch/>
        </p:blipFill>
        <p:spPr>
          <a:xfrm>
            <a:off x="304812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7"/>
          <a:stretch/>
        </p:blipFill>
        <p:spPr>
          <a:xfrm>
            <a:off x="4267080" y="3200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8"/>
          <a:stretch/>
        </p:blipFill>
        <p:spPr>
          <a:xfrm>
            <a:off x="5257800" y="3200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– Low Power 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8000"/>
          </a:bodyPr>
          <a:p>
            <a:pPr marL="186480" indent="-18648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tra Low Power RT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/ 0.6µA (ty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ar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ltra Low Power RT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timer with minimum resolution of 100 µ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64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6480" indent="-18648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mode with 32KHz clo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46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 device run from slow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524560" y="9144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- Analog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7000"/>
          </a:bodyPr>
          <a:p>
            <a:pPr marL="184680" indent="-18468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-end 12-bit AD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sample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8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fferential or single ende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grammable gain stage (x1, x2, x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V to 3.6V operating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4680" indent="-18468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 power 10-bit AD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8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on the SAM7 M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0V to 3.6V operating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892840" y="2057400"/>
            <a:ext cx="2911320" cy="312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– Safety &amp; Security Featur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85000"/>
          </a:bodyPr>
          <a:p>
            <a:pPr marL="161640" indent="-161640">
              <a:lnSpc>
                <a:spcPct val="90000"/>
              </a:lnSpc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U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Protection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77360" indent="-152280">
              <a:lnSpc>
                <a:spcPct val="90000"/>
              </a:lnSpc>
              <a:spcBef>
                <a:spcPts val="75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s code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360" indent="-152280">
              <a:lnSpc>
                <a:spcPct val="90000"/>
              </a:lnSpc>
              <a:spcBef>
                <a:spcPts val="75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s multi-application/ task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3640" indent="-1602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E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3640" indent="-1602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ror configuration with dual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3640" indent="-1602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and Lock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ambling on External Bus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, programmable BOD, Watchdo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 Failure detection &amp; backup clock circui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90000"/>
              </a:lnSpc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ed Mode for peripher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3640" indent="-1602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s configuration can be lo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2251080" cy="225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– BOM cost reduction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bedded POR and BO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ctory trimmed 12/8/4MHz internal R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 1 µA RTC with calendar fea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rt I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ouncing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delay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-Die ter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90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edded serial resistor to preserve signal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213680" y="3429000"/>
            <a:ext cx="1625400" cy="162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Goodies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3000"/>
          </a:bodyPr>
          <a:p>
            <a:pPr marL="176760" indent="-176760">
              <a:spcBef>
                <a:spcPts val="24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8-bit Unique I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y program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access by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generate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760" indent="-176760">
              <a:spcBef>
                <a:spcPts val="24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-BA boot in BootROM wit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ART boot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B bootlo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5320">
              <a:spcBef>
                <a:spcPts val="10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P 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AM3U Ecosystem</a:t>
            </a: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13920" y="2112480"/>
            <a:ext cx="41864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87000"/>
          </a:bodyPr>
          <a:p>
            <a:pPr marL="165600" indent="-1656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Tools support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R EW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il MD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Sourcery GNU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TAG-ICE/SWD/SWV Debu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-ICE 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-Situ Flash Programm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1200" indent="-16380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-B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88880" indent="-155880">
              <a:spcBef>
                <a:spcPts val="751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B or S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3000" y="1071360"/>
            <a:ext cx="418608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8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Operating Systems &amp; Middle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R - Power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IL - R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ger - Emb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ium - uC-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9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14280" y="1071720"/>
            <a:ext cx="1752480" cy="10411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2286000" y="1182600"/>
            <a:ext cx="2098440" cy="929880"/>
            <a:chOff x="2286000" y="1182600"/>
            <a:chExt cx="2098440" cy="929880"/>
          </a:xfrm>
        </p:grpSpPr>
        <p:sp>
          <p:nvSpPr>
            <p:cNvPr id="248" name=""/>
            <p:cNvSpPr/>
            <p:nvPr/>
          </p:nvSpPr>
          <p:spPr>
            <a:xfrm>
              <a:off x="2286000" y="1182600"/>
              <a:ext cx="2098440" cy="92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2286000" y="1182600"/>
              <a:ext cx="2066400" cy="92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4876920" y="4567320"/>
            <a:ext cx="1676160" cy="9507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6553080" y="4168800"/>
            <a:ext cx="2381400" cy="6746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6553080" y="4952880"/>
            <a:ext cx="1979640" cy="1128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4720" y="167760"/>
            <a:ext cx="71294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14280" y="1071360"/>
            <a:ext cx="8524800" cy="493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4:58:27Z</dcterms:created>
  <dc:creator>Atmel RFO</dc:creator>
  <dc:description/>
  <dc:language>en-US</dc:language>
  <cp:lastModifiedBy>alex.long</cp:lastModifiedBy>
  <dcterms:modified xsi:type="dcterms:W3CDTF">2009-11-25T09:58:23Z</dcterms:modified>
  <cp:revision>295</cp:revision>
  <dc:subject/>
  <dc:title>Slide 1</dc:title>
</cp:coreProperties>
</file>